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4FB-4D1E-4B14-A350-B87FD03F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B35-AB47-4995-A3EE-C98D063D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66A-807E-4B8C-B8B7-677CFEB8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276-7EA5-467D-9476-9A10097C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A2B4-0C21-4D9E-8D6A-03359F38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3504-C01D-4A28-BCC7-D298A1E8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8F45-108C-462F-BDE9-C17A9C1A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2AB-EF74-4D2F-B2D9-1F18683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5F0E-1804-4CBE-AE56-2F877625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E188-DC6B-49DD-AA8E-DCE2BF0A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2281-7FC6-4906-83E8-0B33A199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5AA-4352-4E48-830B-8196161B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ABD7-6828-49B9-8CD8-F30E4CF4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3DA-9EB5-4A82-9B77-3C29AE9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0AE8-8D7B-4082-9967-5F67FA9F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8E47-1554-440B-8483-E6AC8DD9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E365-B2C1-46AA-877A-43D0797E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4B8-9C52-4384-9CA1-E9345771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C51-6F4E-445E-968E-7084C8C2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CE7-D743-4EDF-99DD-55EA6E0D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AFF-9FA6-479D-AD6A-63C4A73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896-3AC1-4616-BB07-F6EAD22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C27-FFB5-4CC7-97AD-F540238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009-5208-4A15-BB40-EA57D7B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BC8C-9FE1-4EEC-B7E8-A611F9452D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AA2-8A9F-4A55-BFEF-29D8D603BC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natomy &amp; Physiolog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pter 1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Introduction to Anatomy &amp; Physi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OSS ANATOM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oss Anatom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.k.a. macroscopic anatom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s features visible with the unaided e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rface Anat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udy of general form and superficial mark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gional Anat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ficial and internal features in a specific re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ic Anat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 of the major orga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ICROSCOPIC ANATOM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croscopic Anatom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uctures that can’t be seen without magn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yt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alyzes the internal structure of individual 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ist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amines tiss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ysi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uman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ll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ecial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stemic physi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thological physiology (patholog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uman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of the functions of the human b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of the functions of living ce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ludes events at the chemical and molecular leve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mical processes within cells and between 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al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y of the physiology of specific org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cardiac physiology (heart functio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ic physiolog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s of specific orga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reproductive physiolo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thological Physiology (Patholog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study of the effects of diseases on organ or system fun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thos = dise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00200"/>
            <a:ext cx="731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s built on successive levels of increasing complexi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(or Molecul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or Molecular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mallest stable units of matter, combine to form molecules with complex sha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ular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molecules can interact to form larger structures, each type of which has a specific function in a c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ssu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issue is composed of similar cells working together to perform a specific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heart muscle cells form cardiac muscle tissu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rgan consists of two or more different tissues working together to perform specific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the heart which is composed of cardiac muscle and other tiss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Organiza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 System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interact in orga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the heart, blood vessels, and blood form the cardiovascular syste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m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of the organ systems of the body work together to maintain life and 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:  Human be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36340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be the basic functions of living organis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 anatomy and physiology, and describe the various specialties within each discip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he major levels of organization in living organis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he organ systems of the human body and the major components of each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lain the significance of homeost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ribe how negative and positive feedback is involved in homeostatic reg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anatomical terms to describe body sections, body regions, and relative pos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 the major body cavities and its subdivi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6360" y="379440"/>
            <a:ext cx="8529840" cy="6377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E 1-1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73160" y="730080"/>
            <a:ext cx="1441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2840" y="514440"/>
            <a:ext cx="2832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s 5–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6160" y="3403440"/>
            <a:ext cx="99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85080" y="4464000"/>
            <a:ext cx="1879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issu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5502240"/>
            <a:ext cx="1879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llular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200" y="5578560"/>
            <a:ext cx="2317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emical 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lecular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hap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48040" y="1652760"/>
            <a:ext cx="57600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tegumenta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19360" y="1523880"/>
            <a:ext cx="415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kele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3080" y="1436760"/>
            <a:ext cx="4161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62480" y="1362240"/>
            <a:ext cx="41580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297080"/>
            <a:ext cx="41580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ndocri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0160" y="1247760"/>
            <a:ext cx="74772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8400" y="1297080"/>
            <a:ext cx="4161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Lymphat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9760" y="1362240"/>
            <a:ext cx="4413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89680" y="1436760"/>
            <a:ext cx="4413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97560" y="1536840"/>
            <a:ext cx="44136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Urina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38920" y="1657440"/>
            <a:ext cx="53820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06960" y="3963960"/>
            <a:ext cx="2797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38880" y="4626000"/>
            <a:ext cx="35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ardia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60800" y="5522760"/>
            <a:ext cx="352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7760" y="5891040"/>
            <a:ext cx="6267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Protein fila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54280" y="5632560"/>
            <a:ext cx="631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plex prote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16280" y="4835520"/>
            <a:ext cx="6318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toms 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 System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ety of physiological mechanisms act to prevent potentially dangerous changes in the environment inside the bo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omeosta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ers to the existence of a stable internal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eded to surv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 System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re are 11 organ sys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1) integumentary; (2) skeletal; (3) muscular; (4) nervous; (5) endocrine; (6) cardiovascular; (7) lymphatic; (8) respiratory; (9) digestive; (10) urinary; (11) reproduc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24080" y="379440"/>
            <a:ext cx="4694400" cy="6377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48000" y="361800"/>
            <a:ext cx="77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LE 1-2a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8000" y="1467000"/>
            <a:ext cx="2826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idermi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2360" y="399420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ger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0200" y="59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30160" y="596880"/>
            <a:ext cx="663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4520" y="163188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266920" y="3641400"/>
            <a:ext cx="173376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648320"/>
            <a:ext cx="22096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gu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gumentary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gumentary system protects against environmental hazards; helps control body tempera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2895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gumentary System Component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352680" y="1676520"/>
          <a:ext cx="5639040" cy="4686120"/>
        </p:xfrm>
        <a:graphic>
          <a:graphicData uri="http://schemas.openxmlformats.org/drawingml/2006/table">
            <a:tbl>
              <a:tblPr/>
              <a:tblGrid>
                <a:gridCol w="2467080"/>
                <a:gridCol w="3171960"/>
              </a:tblGrid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taneo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br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Epider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Der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ir Foll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Sebacceous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H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eat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sory Recep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cutaneous 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01_02b-OrgSysSkeletal_L.jpg"/>
          <p:cNvPicPr/>
          <p:nvPr/>
        </p:nvPicPr>
        <p:blipFill>
          <a:blip r:embed="rId1"/>
          <a:stretch/>
        </p:blipFill>
        <p:spPr>
          <a:xfrm>
            <a:off x="1676520" y="609480"/>
            <a:ext cx="7257960" cy="5486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4495680"/>
            <a:ext cx="2743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keletal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keletal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support; protects tissues; stores minerals; forms bl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2438280" cy="16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Skeletal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43200" y="1981080"/>
          <a:ext cx="6095880" cy="4052880"/>
        </p:xfrm>
        <a:graphic>
          <a:graphicData uri="http://schemas.openxmlformats.org/drawingml/2006/table">
            <a:tbl>
              <a:tblPr/>
              <a:tblGrid>
                <a:gridCol w="2476440"/>
                <a:gridCol w="361944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es, cartilages, and j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Axial Skeleton (skull, vertebrae, ribs, sternum, sacrum, cartilages, and liga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Appendicular Skeleton (limbs and supporting bones and liga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e Ma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01_02cOrgSysMuscular_L.jpg"/>
          <p:cNvPicPr/>
          <p:nvPr/>
        </p:nvPicPr>
        <p:blipFill>
          <a:blip r:embed="rId1"/>
          <a:stretch/>
        </p:blipFill>
        <p:spPr>
          <a:xfrm>
            <a:off x="3505320" y="533520"/>
            <a:ext cx="5319720" cy="5481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4267080"/>
            <a:ext cx="2819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Muscular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living organisms share the following characteristic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uscular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ows for locomotion; provides support; produces he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221148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s of the Muscular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429000" y="1827360"/>
          <a:ext cx="5254560" cy="3157560"/>
        </p:xfrm>
        <a:graphic>
          <a:graphicData uri="http://schemas.openxmlformats.org/drawingml/2006/table">
            <a:tbl>
              <a:tblPr/>
              <a:tblGrid>
                <a:gridCol w="2627280"/>
                <a:gridCol w="262728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keletal Mus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al mus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endicular mus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d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01_02dOrgSysNervous_L.jpg"/>
          <p:cNvPicPr/>
          <p:nvPr/>
        </p:nvPicPr>
        <p:blipFill>
          <a:blip r:embed="rId1"/>
          <a:stretch/>
        </p:blipFill>
        <p:spPr>
          <a:xfrm>
            <a:off x="3886200" y="609480"/>
            <a:ext cx="4789440" cy="5481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4038480"/>
            <a:ext cx="304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Nervous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Nervous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rects immediate response to stimuli, usually by coordinating the activities of other organ syst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236376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s of the Nervous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00400" y="1828800"/>
          <a:ext cx="5562720" cy="3733920"/>
        </p:xfrm>
        <a:graphic>
          <a:graphicData uri="http://schemas.openxmlformats.org/drawingml/2006/table">
            <a:tbl>
              <a:tblPr/>
              <a:tblGrid>
                <a:gridCol w="2625840"/>
                <a:gridCol w="2936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 Nervous System (C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nal 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ipheral Nervous System (P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01_02eOrgSysEndocrine_L.jpg"/>
          <p:cNvPicPr/>
          <p:nvPr/>
        </p:nvPicPr>
        <p:blipFill>
          <a:blip r:embed="rId1"/>
          <a:stretch/>
        </p:blipFill>
        <p:spPr>
          <a:xfrm>
            <a:off x="3657600" y="685800"/>
            <a:ext cx="5018040" cy="5484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4920" y="41148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ndocrin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ndocrine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rects long-term changes in activities of other organ syst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25164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mponents of the Endocrine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1752480"/>
          <a:ext cx="5410080" cy="4424400"/>
        </p:xfrm>
        <a:graphic>
          <a:graphicData uri="http://schemas.openxmlformats.org/drawingml/2006/table">
            <a:tbl>
              <a:tblPr/>
              <a:tblGrid>
                <a:gridCol w="2629080"/>
                <a:gridCol w="27810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neal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tuitary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yroid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thyroid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y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renal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dne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c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n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01_02fOrgSysCardiovasclr_L.jpg"/>
          <p:cNvPicPr/>
          <p:nvPr/>
        </p:nvPicPr>
        <p:blipFill>
          <a:blip r:embed="rId1"/>
          <a:stretch/>
        </p:blipFill>
        <p:spPr>
          <a:xfrm>
            <a:off x="4724280" y="762120"/>
            <a:ext cx="3884760" cy="5491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9480" y="3962520"/>
            <a:ext cx="3200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Cardiovascular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ardiovascular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nsports cells and dissolved materials, including nutrients, wastes, and ga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 respond to changes in their immediate environment (a.k.a. irritabilit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 move hand away from hot st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19520" y="2057400"/>
          <a:ext cx="5943240" cy="3733560"/>
        </p:xfrm>
        <a:graphic>
          <a:graphicData uri="http://schemas.openxmlformats.org/drawingml/2006/table">
            <a:tbl>
              <a:tblPr/>
              <a:tblGrid>
                <a:gridCol w="2972520"/>
                <a:gridCol w="2970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od Vess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e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ill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8600" y="297180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onents of the Cardiovascular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01_02gOrgSysLymphatic_L.jpg"/>
          <p:cNvPicPr/>
          <p:nvPr/>
        </p:nvPicPr>
        <p:blipFill>
          <a:blip r:embed="rId1"/>
          <a:stretch/>
        </p:blipFill>
        <p:spPr>
          <a:xfrm>
            <a:off x="4495680" y="609480"/>
            <a:ext cx="4251600" cy="549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9480" y="3733920"/>
            <a:ext cx="32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Lymphatic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ymphatic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ends against infections and disease, returns tissue fluid to the bloodstrea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22878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nents of the Lymphatic Syste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200400" y="1981080"/>
          <a:ext cx="5181480" cy="3978360"/>
        </p:xfrm>
        <a:graphic>
          <a:graphicData uri="http://schemas.openxmlformats.org/drawingml/2006/table">
            <a:tbl>
              <a:tblPr/>
              <a:tblGrid>
                <a:gridCol w="2476440"/>
                <a:gridCol w="2705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ymphatic Vess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ymph No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l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y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01_02hOrgSysRespiratory_L.jpg"/>
          <p:cNvPicPr/>
          <p:nvPr/>
        </p:nvPicPr>
        <p:blipFill>
          <a:blip r:embed="rId1"/>
          <a:stretch/>
        </p:blipFill>
        <p:spPr>
          <a:xfrm>
            <a:off x="4648320" y="914400"/>
            <a:ext cx="3967200" cy="5483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3886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spiratory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piratory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livers air to sites where gas exchange can occur between the air and circulating bloo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66832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Respiratory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00400" y="1981080"/>
          <a:ext cx="5029200" cy="4229280"/>
        </p:xfrm>
        <a:graphic>
          <a:graphicData uri="http://schemas.openxmlformats.org/drawingml/2006/table">
            <a:tbl>
              <a:tblPr/>
              <a:tblGrid>
                <a:gridCol w="2552760"/>
                <a:gridCol w="24764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sal Cavities, Paranasal Sin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ry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y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h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n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ve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01_02iOrgSysDigestive_L.jpg"/>
          <p:cNvPicPr/>
          <p:nvPr/>
        </p:nvPicPr>
        <p:blipFill>
          <a:blip r:embed="rId1"/>
          <a:stretch/>
        </p:blipFill>
        <p:spPr>
          <a:xfrm>
            <a:off x="3809880" y="609480"/>
            <a:ext cx="4881600" cy="5489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3962520"/>
            <a:ext cx="2590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Digestiv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Digestive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es food and absorbs nutri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25160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Digestiv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200400" y="1828800"/>
          <a:ext cx="5334120" cy="4129200"/>
        </p:xfrm>
        <a:graphic>
          <a:graphicData uri="http://schemas.openxmlformats.org/drawingml/2006/table">
            <a:tbl>
              <a:tblPr/>
              <a:tblGrid>
                <a:gridCol w="2854440"/>
                <a:gridCol w="24796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vary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ryn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ophag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m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ll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c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ver a lifetime, organisms increase in size through the growth of cel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gle celled organisms get bigger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cellular organisms grow by increasing the number of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01_02jOrgSysUrinary_L.jpg"/>
          <p:cNvPicPr/>
          <p:nvPr/>
        </p:nvPicPr>
        <p:blipFill>
          <a:blip r:embed="rId1"/>
          <a:stretch/>
        </p:blipFill>
        <p:spPr>
          <a:xfrm>
            <a:off x="4648320" y="838080"/>
            <a:ext cx="4066920" cy="5489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2120" y="403848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Urinary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Urinary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iminates excess water, salts, and waste produc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243972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Urinary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200400" y="2057400"/>
          <a:ext cx="4876920" cy="3902040"/>
        </p:xfrm>
        <a:graphic>
          <a:graphicData uri="http://schemas.openxmlformats.org/drawingml/2006/table">
            <a:tbl>
              <a:tblPr/>
              <a:tblGrid>
                <a:gridCol w="2400480"/>
                <a:gridCol w="2476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dne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inary 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eth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01_02kOrgSysMaleReprod_L.jpg"/>
          <p:cNvPicPr/>
          <p:nvPr/>
        </p:nvPicPr>
        <p:blipFill>
          <a:blip r:embed="rId1"/>
          <a:stretch/>
        </p:blipFill>
        <p:spPr>
          <a:xfrm>
            <a:off x="3962520" y="609480"/>
            <a:ext cx="4680000" cy="5488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3520" y="3581280"/>
            <a:ext cx="3047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Male Reproductiv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productive System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duces sex cells and horm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28972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Male Reproductiv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429000" y="1981080"/>
          <a:ext cx="5334120" cy="4332240"/>
        </p:xfrm>
        <a:graphic>
          <a:graphicData uri="http://schemas.openxmlformats.org/drawingml/2006/table">
            <a:tbl>
              <a:tblPr/>
              <a:tblGrid>
                <a:gridCol w="2701800"/>
                <a:gridCol w="26323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ory Org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pididy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tus deferens (sperm du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inal ves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tate g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eth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Genit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ro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01_02lOrgSysFemaleReprod_L.jpg"/>
          <p:cNvPicPr/>
          <p:nvPr/>
        </p:nvPicPr>
        <p:blipFill>
          <a:blip r:embed="rId1"/>
          <a:stretch/>
        </p:blipFill>
        <p:spPr>
          <a:xfrm>
            <a:off x="4267080" y="533520"/>
            <a:ext cx="4388040" cy="5483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7200" y="39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Female Reproductiv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rgan Systems of the Bod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8972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nents of the Female Reproductiv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657600" y="1905120"/>
          <a:ext cx="5105520" cy="4114800"/>
        </p:xfrm>
        <a:graphic>
          <a:graphicData uri="http://schemas.openxmlformats.org/drawingml/2006/table">
            <a:tbl>
              <a:tblPr/>
              <a:tblGrid>
                <a:gridCol w="2701800"/>
                <a:gridCol w="24037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erine Tub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e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g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Genit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mmary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990360"/>
            <a:ext cx="731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omeostatic Regul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fers to the adjustments in physiological systems that preserve homeosta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is sensitive to a particular environmental change 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 cen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ich receives and processes information from the rece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ffec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ich responds to the commands of the control center and whose activity opposes or reinforces the stim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gative Feedbac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imulus produces a response that opposes the original stimul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:  your temperature rises due to exercise, as a result your body compensates by increasing blood flow at the body surface releasing heat, and by evaporation of swe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p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 create more generations of similar organis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 are capable of both internal (Ex: blood) and external (Ex: walking) move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sitive Feedbac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imulus produces a response that reinforces the original stimul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involved in the regulation of a potentially dangerous or stressful process that must be completed quick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meostatic Reg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sitive Feedbac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:  Immediate danger from a severe cut is blood lo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mage to the cells in the cut blood vessel wall releases chemicals that begin a multistep process of blood clotting.  Each step releases chemicals that accelerate the proces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-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es and Se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y slice through a 3-D object can be described with reference to three primary sectional plan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7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verse pla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7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ontal pla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7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gittal pla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ransverse Plan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es at right angles to the long (head-to-foot) axis of the body, dividing the body int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up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inf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rtions.  A cut in this plane is called a transverse section, or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Frontal Plan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coronal plan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runs along the long axis of the body.  The frontal plane extends laterally (side to side), dividing the body int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nt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oster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rtion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Body 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tional Anatom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Sagittal Plan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ns along the long axis of the body, but it extends anteriorly and posteriorly (front to back).  A sagittal plane divides the body into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ortions.  A cut that passes along the body’s midline and divides the body into left and right halves is a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midsagittal sectio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it doesn’t cut through the legs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01_09PlanesofSection_L.jpg"/>
          <p:cNvPicPr/>
          <p:nvPr/>
        </p:nvPicPr>
        <p:blipFill>
          <a:blip r:embed="rId1"/>
          <a:stretch/>
        </p:blipFill>
        <p:spPr>
          <a:xfrm>
            <a:off x="1447920" y="533520"/>
            <a:ext cx="7467480" cy="54831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28600" y="5029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es of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Reg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face Anatom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Landmar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Reg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Dir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Reg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Landmark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anatomical illustrations show the human form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tomical posi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ith the hands at the sides with the palms facing forward, and the feet toget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erson lying down in the anatomical position is said to b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face up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face 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" descr="01_06aAnatomLandmrkAntr_L.jpg"/>
          <p:cNvPicPr/>
          <p:nvPr/>
        </p:nvPicPr>
        <p:blipFill>
          <a:blip r:embed="rId1"/>
          <a:stretch/>
        </p:blipFill>
        <p:spPr>
          <a:xfrm>
            <a:off x="1219320" y="228600"/>
            <a:ext cx="7075440" cy="5481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38280" y="6019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atomical Landmarks: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fers to all of the chemical operations under way in the bo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generates unneeded or potentially harmful waste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iminated by process of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excre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" descr="01_06bAnatomLandmrkPost_L.jpg"/>
          <p:cNvPicPr/>
          <p:nvPr/>
        </p:nvPicPr>
        <p:blipFill>
          <a:blip r:embed="rId1"/>
          <a:stretch/>
        </p:blipFill>
        <p:spPr>
          <a:xfrm>
            <a:off x="1371600" y="228600"/>
            <a:ext cx="7277040" cy="5483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4320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atomical Landmarks: 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tomical Terms:  Reg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tomical Region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used in conjunction with landmarks to describe a general area of interest or inj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methods are used to map the surface of the abdomen and pelv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bdominopelvic quardra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ives a general location of p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bdominopelvic reg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d to describe the location and orientation of internal org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" descr="01_07aAbdominopelvic_L.jpg"/>
          <p:cNvPicPr/>
          <p:nvPr/>
        </p:nvPicPr>
        <p:blipFill>
          <a:blip r:embed="rId1"/>
          <a:stretch/>
        </p:blipFill>
        <p:spPr>
          <a:xfrm>
            <a:off x="917640" y="457200"/>
            <a:ext cx="82263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01_07bAbdominopelvic_L.jpg"/>
          <p:cNvPicPr/>
          <p:nvPr/>
        </p:nvPicPr>
        <p:blipFill>
          <a:blip r:embed="rId1"/>
          <a:stretch/>
        </p:blipFill>
        <p:spPr>
          <a:xfrm>
            <a:off x="314280" y="380880"/>
            <a:ext cx="882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natomical Terms:  Direc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01_08-DirectionalRef_L.jpg"/>
          <p:cNvPicPr/>
          <p:nvPr/>
        </p:nvPicPr>
        <p:blipFill>
          <a:blip r:embed="rId1"/>
          <a:stretch/>
        </p:blipFill>
        <p:spPr>
          <a:xfrm>
            <a:off x="1447920" y="990720"/>
            <a:ext cx="65181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" descr="01_T02DirectionalTerms_T.jpg"/>
          <p:cNvPicPr/>
          <p:nvPr/>
        </p:nvPicPr>
        <p:blipFill>
          <a:blip r:embed="rId1"/>
          <a:stretch/>
        </p:blipFill>
        <p:spPr>
          <a:xfrm>
            <a:off x="642960" y="533520"/>
            <a:ext cx="85010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dy Caviti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wo essential fun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y protect delicate organs from accidental shocks and cushion them from the jolting that occurs when we walk, jump, or r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y permit significant changes in the size and shape of internal org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" descr="01_10-VentralBodyCav_L.jpg"/>
          <p:cNvPicPr/>
          <p:nvPr/>
        </p:nvPicPr>
        <p:blipFill>
          <a:blip r:embed="rId1"/>
          <a:stretch/>
        </p:blipFill>
        <p:spPr>
          <a:xfrm>
            <a:off x="1219320" y="990720"/>
            <a:ext cx="75960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dy Caviti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ntral Body Cav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.k.a. coel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organs of the respiratory, cardiovascular, digestive, urinary, and reproductive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subdivided by the diaphragm i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superi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oracic cav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 inferior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abdominopelvic cav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dy Caviti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oracic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three internal cha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ericardial cav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wo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leural caviti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at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ns “a cutting open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ies the internal and external structures and physical relationships between body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si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ns “the study of how living organisms perform their vital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oracic Cavity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cardial Cavity—contains the he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ural Cavities—each surround a l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Abdominopelvic Cav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s from the diaphragm to the pel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divided into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erior abdominal cav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erior pelvic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itoneal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hamber lined by a serous membrane known as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iton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jor Body Cavities and Subdivi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bdominal Ca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s from the inferior surface of the diaphragm to the level of the superior margins of the pel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liver, stomach, spleen, small intestine, and most of the large intes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lvic Ca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ion of the ventral body cavity inferior to the abdominal ca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the distal portion of the large intestine, urinary bladder, and reproductive org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. 1: 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 Introduction to Anatomy &amp; Physi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ciences of Anatomy &amp; Physiolog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t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24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oss anatom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24"/>
              </a:spcBef>
              <a:buClr>
                <a:srgbClr val="006666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croscopic anatom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4:47:11Z</dcterms:created>
  <dc:creator>Administrator</dc:creator>
  <dc:description/>
  <dc:language>en-US</dc:language>
  <cp:lastModifiedBy>Administrator</cp:lastModifiedBy>
  <dcterms:modified xsi:type="dcterms:W3CDTF">2010-06-21T18:25:47Z</dcterms:modified>
  <cp:revision>39</cp:revision>
  <dc:subject/>
  <dc:title>Anatomy &amp; Physiology</dc:title>
</cp:coreProperties>
</file>